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chimes.wav" ContentType="audio/x-wav"/>
  <Override PartName="/ppt/media/image8.png" ContentType="image/png"/>
  <Override PartName="/ppt/media/image4.png" ContentType="image/png"/>
  <Override PartName="/ppt/media/image5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920C-816D-431A-A74A-4D19203CD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9B7B-CA2E-41D1-8E73-CB1361AE85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B17A-2308-4BA4-AE0B-CC3714B068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28B4-8056-475A-A854-89F8A295FE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0730-6168-455A-BCBE-97BEA21E21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FFB7-0A3D-4428-8C06-3E4C03DED5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EDDB-6900-4024-9795-FDF7D1C9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DD52-6374-49B4-A8B7-4BF02A24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6558-278F-4F1F-8582-3E675738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6C01-062C-4975-B9A5-CBEF80C93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6064-3CDF-41BC-9994-3EC214B75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523F-F0CB-40A6-9590-889D4E88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8577-FA0A-4C94-9188-80C55EBF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5F20-A0C7-455B-913E-C1B9B67B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A09B-DDCD-4EED-94A0-C9C5A4F1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3BCE-7AEC-4490-A0A4-1AD91BC9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8BFF-AFA5-4660-8E3D-0D0F3C69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9946-D27C-4813-BD00-9252E45A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13D9-BA8D-4140-89C8-0DDED880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1280-FFD6-4188-8B62-F42F26BA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BA5D-6411-42B5-BBE5-22642238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B0FE-CCC9-40DF-85E8-CA9CA5F3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A041-4B63-4AEE-8ED8-F30C90E26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771D-CF41-4574-93A4-89C270BB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8061-D1AC-4DE0-B2F6-6CC923DF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A558-E38F-4716-A02D-98BF5C4B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68B6-5514-4B01-8061-C69965F4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9AEF-5D80-4BEB-B5F9-46A27315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CCFD-93CE-4BF2-AA22-82871FE7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F16E-A924-4AEB-BF6D-F3B24DC0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1635-C368-49C3-9CA6-CAE5927FC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4548-735B-4B9F-AC41-0E4A0A2B12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IGHTS OF BRITISH CITIZENS ONQ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 answer on a separate piece of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use your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863280"/>
            <a:ext cx="91440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What are the two divisions of British Parliament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1828800" y="2971800"/>
            <a:ext cx="538812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Under Common Law, the system is based upon 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court _______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2209680" y="312408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Name the first legislative assembly established in America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2743200" y="2774880"/>
            <a:ext cx="3925800" cy="40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What economic system were the American colonies based on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2"/>
          <a:stretch/>
        </p:blipFill>
        <p:spPr>
          <a:xfrm>
            <a:off x="1981080" y="3048120"/>
            <a:ext cx="4343400" cy="31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914400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Name the policy in which the colonies were allowed self-rule as long as England benefitted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2438280" y="3276720"/>
            <a:ext cx="4570560" cy="2895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2-01-25T16:34:08Z</dcterms:modified>
  <cp:revision>129</cp:revision>
  <dc:subject/>
  <dc:title>D/O: TO EXPLAIN AND IDENTIFY PROBLEMS OF ECONOMICS</dc:title>
</cp:coreProperties>
</file>